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3.jpeg" ContentType="image/jpeg"/>
  <Override PartName="/ppt/media/image10.jpeg" ContentType="image/jpeg"/>
  <Override PartName="/ppt/media/image11.jpeg" ContentType="image/jpe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A768-4DA8-440F-84C4-084869856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C296-B7B0-4FB9-9CE5-370EAA0C8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6817-7B78-4217-8E7C-28D90CE0D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7B3F-DA3B-47ED-B8A0-7489743F4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7957B-318B-4850-AC8F-EDAAA09C8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2D397-7006-418E-A31A-DE4909372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4710F-239D-48DB-82CD-36EDC51CD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4A0AF-5F4B-43BE-A372-7F9DC72F1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D0691-CE34-469C-A67D-78FF29E27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7B299-0FEB-4374-A8CF-B4F179B66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2F0BA-B437-4B3B-ABC3-8A60170B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1735-BE5A-4864-99D0-948A3E4DA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2EEC6-DCB5-4020-BE70-0490AB57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089BF-11D6-42AE-98F7-B2F2EED1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48812-0F6A-45E6-9F64-A8F36F6F5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71391-F761-4901-A1B9-108233A2D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78203-7FB1-458E-8406-6DE1D45F9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F0C6E-B383-4222-B098-75E825962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C5B79-034A-431B-A0BB-B74AC6069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469C0-14A4-41F6-A3B6-B11241302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CCFF1-E2EF-4832-A90F-BF5AC547D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A1C6F-64C6-45F7-A7C3-7445B160D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F372-480B-407E-9675-7EE1B0BFE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BEBDF-3BCE-44F9-A7CC-58205817F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E9D7E-05BC-4669-A5CB-E7D6EA5A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24052-CBDD-4232-BC6C-E7A38FF4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0DC69-CB35-40A5-8D14-1B52ADD2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95D23-4B09-4A8C-B3DE-0ACF320D8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71706-14CD-4818-B662-E6E42BC87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6C2C2-BCC9-4473-B93C-FF3A35F5C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C8E0D-D651-4E1C-BE7C-D25E308EA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93F9A-853A-48D5-9935-6CA0AEC81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469D2-FAEB-4A2D-AEFD-4828D5984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A46A-F423-4516-A913-06787F2DB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4A8C0-C9A9-4EC7-97C5-3A1EAECEE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8766F-DCFA-4B71-A68E-5731D8B80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AECD8-8CD5-4559-9A21-2B7B5D10E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FC933-078B-442F-B964-ABE225BB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87D07-F599-433E-910A-89935180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5CF93-88E8-479C-9C58-97AFC04D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9F5DC-3566-4B54-A48E-D27F99D2A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21991-45AA-4F41-B6A5-018609A2C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B1788-08AB-4546-B7BD-F1A8FD90C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6242-5D04-44C7-AE5A-1E456576D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6764-A8E2-4F9D-8193-203C0ACC0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D226-150B-4F9B-86A4-CCC613EB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264C-0C03-4777-B7F9-3F3B014D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8194-3D44-47CB-B1A2-A660DF25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BDD8A-A4FD-4A41-83FB-1B690E157B74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8E7BA-97F8-4DA3-8685-BB41CC3341F4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12690-326C-4E5B-B7E4-7C66100CC15C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404E6-F897-4EEB-B364-C95328F95A14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upload.wikimedia.org/wikipedia/commons/f/fb/Meselson-stahl_experiment_diagram_en.svg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www.google.rs/url?sa=i&amp;rct=j&amp;q=&amp;esrc=s&amp;source=images&amp;cd=&amp;cad=rja&amp;uact=8&amp;ved=0ahUKEwj1uMvk5s3MAhVDcBoKHcy6DAAQjRwIBw&amp;url=https%3A%2F%2Fwww.mun.ca%2Fbiology%2Fscarr%2FiGen3_03-01.html&amp;psig=AFQjCNFGr1XLxnRIcVULs-3FrgoxuW5_uw&amp;ust=1462911120822401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13712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dbf5f9"/>
                </a:solidFill>
                <a:latin typeface="Arial"/>
              </a:rPr>
              <a:t>РЕПЛИКАЦИЈА</a:t>
            </a:r>
            <a:endParaRPr b="0" lang="en-US" sz="48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cc"/>
                </a:solidFill>
                <a:latin typeface="Calibri"/>
              </a:rPr>
              <a:t>Репликација је савршено контролисана и регулисан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23623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Грешке у спаривању најчешће настају због таутомерних пр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мен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азотних база (прелази Н атом са једне на другу позицију унутар молекула базе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 u="sng">
                <a:solidFill>
                  <a:srgbClr val="000000"/>
                </a:solidFill>
                <a:uFillTx/>
                <a:latin typeface="Arial"/>
              </a:rPr>
              <a:t>Пример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= A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      енолни облик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T-G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      репликациј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≡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≡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G       имино облик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C-A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 репликациј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 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256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ff"/>
                </a:solidFill>
                <a:latin typeface="Arial"/>
              </a:rPr>
              <a:t>Транзициј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мења се пурин пурином и пиримидин пиримидином </a:t>
            </a:r>
            <a:br>
              <a:rPr sz="2400"/>
            </a:br>
            <a:r>
              <a:rPr b="1" i="1" lang="fr-FR" sz="2400" spc="-1" strike="noStrike">
                <a:solidFill>
                  <a:srgbClr val="6600ff"/>
                </a:solidFill>
                <a:latin typeface="Arial"/>
              </a:rPr>
              <a:t>Трансверзије</a:t>
            </a: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мења се пурин пиримидином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и обратно</a:t>
            </a: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Picture 2" descr="http://www.zoology.ubc.ca/genetics/transisverstable.gif"/>
          <p:cNvPicPr/>
          <p:nvPr/>
        </p:nvPicPr>
        <p:blipFill>
          <a:blip r:embed="rId1"/>
          <a:stretch/>
        </p:blipFill>
        <p:spPr>
          <a:xfrm>
            <a:off x="30240" y="3276720"/>
            <a:ext cx="2789280" cy="2895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http://www.mun.ca/biology/scarr/iGen3_07-03_Figure-Lab.jpg"/>
          <p:cNvPicPr/>
          <p:nvPr/>
        </p:nvPicPr>
        <p:blipFill>
          <a:blip r:embed="rId2"/>
          <a:stretch/>
        </p:blipFill>
        <p:spPr>
          <a:xfrm>
            <a:off x="3009960" y="2992320"/>
            <a:ext cx="609588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Arial"/>
              </a:rPr>
              <a:t>Спонтана стопа мутациј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5909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Спонтана стопа мутације 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по гену износи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-4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понтана стопа мутације </a:t>
            </a:r>
            <a:r>
              <a:rPr b="0" lang="sr-CS" sz="2800" spc="-1" strike="noStrike">
                <a:solidFill>
                  <a:srgbClr val="ff0000"/>
                </a:solidFill>
                <a:latin typeface="Arial"/>
              </a:rPr>
              <a:t>по нуклеотиду износи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10</a:t>
            </a:r>
            <a:r>
              <a:rPr b="0" lang="sr-RS" sz="2800" spc="-1" strike="noStrike" baseline="30000">
                <a:solidFill>
                  <a:srgbClr val="ff00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10</a:t>
            </a:r>
            <a:r>
              <a:rPr b="0" lang="sr-RS" sz="2800" spc="-1" strike="noStrike" baseline="30000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Р</a:t>
            </a:r>
            <a:r>
              <a:rPr b="0" lang="sr-CS" sz="5000" spc="-1" strike="noStrike">
                <a:solidFill>
                  <a:srgbClr val="04617b"/>
                </a:solidFill>
                <a:latin typeface="Calibri"/>
              </a:rPr>
              <a:t>епликациј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539640" y="2349000"/>
            <a:ext cx="8229600" cy="207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https://www.youtube.com/watch?v=TNKWgcFPHqwhttps://www.youtube.com/watch?v=TNKWgcFPHqw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Репликација (удвајање) ДНК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НК је једини познати молекул који има способност ауторепродукци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шава се у 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фази интерфаз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ада су хромозоми у деспирализованом стањ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елсон и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ал (1958.) су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војим експериментима показал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а се репликација одвија н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400" spc="-1" strike="noStrike">
                <a:solidFill>
                  <a:srgbClr val="ff0000"/>
                </a:solidFill>
                <a:latin typeface="Arial"/>
              </a:rPr>
              <a:t>полуконзервативан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i="1" lang="sr-Latn-CS" sz="2400" spc="-1" strike="noStrike">
                <a:solidFill>
                  <a:srgbClr val="ff0000"/>
                </a:solidFill>
                <a:latin typeface="Arial"/>
              </a:rPr>
              <a:t>семиконзервативан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начин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  <a:ea typeface="Arial"/>
              </a:rPr>
              <a:t>Експеримент Мезелсона и Штал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9" name="Picture 2" descr="File:Meselson-stahl experiment diagram en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2098800"/>
            <a:ext cx="48765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Репликација се дешава на семиконзервативан начин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1" name="Picture 5" descr="https://www.mun.ca/biology/scarr/iGen3_03-01_Figure-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133720"/>
            <a:ext cx="82296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4617b"/>
                </a:solidFill>
                <a:latin typeface="Arial"/>
              </a:rPr>
              <a:t>Ензими репликације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09120" y="1371240"/>
            <a:ext cx="7239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Хеликаз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Топоизомераз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B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протеин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уклеаз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1. Ендонуклеаз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гзонуклеаз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олимераз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(ДНК-полимеразе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DNK poly I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DNK poly II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DNK poly II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2400" spc="-1" strike="noStrike">
                <a:solidFill>
                  <a:srgbClr val="0000ff"/>
                </a:solidFill>
                <a:latin typeface="Arial"/>
              </a:rPr>
              <a:t>РНК полимераза </a:t>
            </a:r>
            <a:r>
              <a:rPr b="0" lang="sr-Latn-CS" sz="24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ff"/>
                </a:solidFill>
                <a:latin typeface="Arial"/>
              </a:rPr>
              <a:t>примаз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Лигаз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-360" y="990360"/>
            <a:ext cx="4800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пликација код еукариота се дешава на више места дуж хромозома у  исто време,  у правцу </a:t>
            </a:r>
            <a:r>
              <a:rPr b="0" lang="sr-RS" sz="2800" spc="-1" strike="noStrike">
                <a:solidFill>
                  <a:srgbClr val="000000"/>
                </a:solidFill>
                <a:latin typeface="Constantia"/>
              </a:rPr>
              <a:t>5</a:t>
            </a:r>
            <a:r>
              <a:rPr b="0" lang="sr-RS" sz="2800" spc="-1" strike="noStrike" baseline="30000">
                <a:solidFill>
                  <a:srgbClr val="000000"/>
                </a:solidFill>
                <a:latin typeface="Constantia"/>
              </a:rPr>
              <a:t>'</a:t>
            </a:r>
            <a:r>
              <a:rPr b="0" lang="sr-RS" sz="2800" spc="-1" strike="noStrike">
                <a:solidFill>
                  <a:srgbClr val="000000"/>
                </a:solidFill>
                <a:latin typeface="Constantia"/>
              </a:rPr>
              <a:t>-3</a:t>
            </a:r>
            <a:r>
              <a:rPr b="0" lang="sr-RS" sz="2800" spc="-1" strike="noStrike" baseline="30000">
                <a:solidFill>
                  <a:srgbClr val="000000"/>
                </a:solidFill>
                <a:latin typeface="Constantia"/>
              </a:rPr>
              <a:t>'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 почиње на самом крају ланц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4" descr="ReplicationBubbles"/>
          <p:cNvPicPr/>
          <p:nvPr/>
        </p:nvPicPr>
        <p:blipFill>
          <a:blip r:embed="rId1"/>
          <a:stretch/>
        </p:blipFill>
        <p:spPr>
          <a:xfrm>
            <a:off x="5562720" y="1371600"/>
            <a:ext cx="272232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228240" y="1294920"/>
            <a:ext cx="43434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цесу репликације претходи иницијација репликациј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 иницијацији настаје пререпликациони комплекс (комплекс протеина који настаје на месту почетка репликациј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ication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rigin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4" descr="replication3"/>
          <p:cNvPicPr/>
          <p:nvPr/>
        </p:nvPicPr>
        <p:blipFill>
          <a:blip r:embed="rId1"/>
          <a:stretch/>
        </p:blipFill>
        <p:spPr>
          <a:xfrm>
            <a:off x="4876920" y="1447920"/>
            <a:ext cx="3976560" cy="36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0" y="144792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пликација 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ече у исто време на оба ланца у правцу 5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`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`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а пошто су они антипаралелни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на једном тече од краја ка средишту репликацио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виљушке, а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на другом од средишта ка крају репликационе виљушк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3" descr="DNArep1"/>
          <p:cNvPicPr/>
          <p:nvPr/>
        </p:nvPicPr>
        <p:blipFill>
          <a:blip r:embed="rId1"/>
          <a:stretch/>
        </p:blipFill>
        <p:spPr>
          <a:xfrm>
            <a:off x="4400640" y="1295280"/>
            <a:ext cx="4743360" cy="454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1. На </a:t>
            </a:r>
            <a:r>
              <a:rPr b="1" lang="sr-CS" sz="2000" spc="-1" strike="noStrike">
                <a:solidFill>
                  <a:srgbClr val="ff0000"/>
                </a:solidFill>
                <a:latin typeface="Arial"/>
              </a:rPr>
              <a:t>водећем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ланцу - Примаза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K poly III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763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. На </a:t>
            </a:r>
            <a:r>
              <a:rPr b="1" lang="sr-CS" sz="2000" spc="-1" strike="noStrike">
                <a:solidFill>
                  <a:srgbClr val="ff0000"/>
                </a:solidFill>
                <a:latin typeface="Arial"/>
              </a:rPr>
              <a:t>заостајућем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ланцу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Прима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K poly II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K poly 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Лигаза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која повезује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00ff"/>
                </a:solidFill>
                <a:latin typeface="Arial"/>
              </a:rPr>
              <a:t>Оказакијеве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ф</a:t>
            </a:r>
            <a:r>
              <a:rPr b="1" i="1" lang="sr-Latn-CS" sz="2000" spc="-1" strike="noStrike">
                <a:solidFill>
                  <a:srgbClr val="0000ff"/>
                </a:solidFill>
                <a:latin typeface="Arial"/>
              </a:rPr>
              <a:t>рагмент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4" descr="Enzymes%20at%20Replication%20Fork"/>
          <p:cNvPicPr/>
          <p:nvPr/>
        </p:nvPicPr>
        <p:blipFill>
          <a:blip r:embed="rId1"/>
          <a:stretch/>
        </p:blipFill>
        <p:spPr>
          <a:xfrm>
            <a:off x="2819520" y="1860480"/>
            <a:ext cx="6172200" cy="4716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11:26:11Z</dcterms:created>
  <dc:creator>Olivera</dc:creator>
  <dc:description/>
  <dc:language>en-US</dc:language>
  <cp:lastModifiedBy>Korisnik</cp:lastModifiedBy>
  <dcterms:modified xsi:type="dcterms:W3CDTF">2021-11-15T15:16:37Z</dcterms:modified>
  <cp:revision>101</cp:revision>
  <dc:subject/>
  <dc:title>2-Humani genom</dc:title>
</cp:coreProperties>
</file>